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8.gif" ContentType="image/gif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A96-0467-47F8-9FB7-768BC0CA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075-B12E-4103-9B24-3CE0E956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A61-1C2E-41B7-9BC1-1F951CD7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2F0-B5EF-4F66-81EF-8001711B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A6E-E9FE-494C-9113-2BA13968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3F9-B9BB-4AD3-8332-2A09219E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98E-C8E0-48F9-A22C-AC7D7080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075-6D22-413B-9C81-D06C43D4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2B7-0AF2-475B-8EB4-57E8466D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257-1FD1-49B0-A9DE-C720387F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829-CEFC-4CD4-9284-4FFFE6D2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C8B-B968-4989-B823-4706C0F7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A67F-5306-4364-9021-7591DE95D7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af 2.3 Kunnen aardbevingen overal gebeu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werkt een aardbe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ardbe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een trilling in een deel van de aardko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 op de schaal van Rich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alles is verwoest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Ontstaan aardbevingen ook bij randen van pla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 alle aardbevingen ontstaan op plaatsen waar platen tegen elkaar botsen of waar ze langs elkaar schu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441" t="22222" r="0" b="11528"/>
          <a:stretch/>
        </p:blipFill>
        <p:spPr>
          <a:xfrm>
            <a:off x="250920" y="1916280"/>
            <a:ext cx="8610480" cy="4708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laten schuiven langs elka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meest bekende is de San Andreas breuk in Californië.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105520"/>
            <a:ext cx="609480" cy="3808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410080"/>
            <a:ext cx="304920" cy="1143000"/>
          </a:xfrm>
          <a:custGeom>
            <a:avLst/>
            <a:gdLst>
              <a:gd name="textAreaLeft" fmla="*/ 40680 w 304920"/>
              <a:gd name="textAreaRight" fmla="*/ 264240 w 3049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9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4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wee ´continentale´ platen botsen hier opelkaar.</a:t>
            </a:r>
            <a:br>
              <a:rPr sz="40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tstaan van het Himalayageber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2349360"/>
            <a:ext cx="2540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36604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n drijven uit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801" t="0" r="0" b="0"/>
          <a:stretch/>
        </p:blipFill>
        <p:spPr>
          <a:xfrm>
            <a:off x="468360" y="1635120"/>
            <a:ext cx="8207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 zware ´oceanische´ plaat duikt onder de lichtere ´continentale´ p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1841400"/>
            <a:ext cx="84247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Waar ontstaan nog meer aardbevingen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alle aardbevingen ontstaan aan de randen van pl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k in Nederland lopen kleine breuken waar een aardbeving kan plaatsvi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921200" y="1600200"/>
            <a:ext cx="349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ok in Nederland komen aardbevingen v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ermond 199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8 Schaal van Rich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ot in Tsjechie was deze aardbeving voel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be (Japan) 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sten en sle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r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het deel dat omhoog wordt geduw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en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het deel dat wegz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Horsten en slenken"/>
          <p:cNvPicPr/>
          <p:nvPr/>
        </p:nvPicPr>
        <p:blipFill>
          <a:blip r:embed="rId1"/>
          <a:stretch/>
        </p:blipFill>
        <p:spPr>
          <a:xfrm>
            <a:off x="1835280" y="2852640"/>
            <a:ext cx="518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ardbevingen veroorzaakt door de me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 winning van delfstoffen zoals steenkool of aard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2880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559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pocent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de plek waar de trillingen beg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Epicentr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de plek aan het aardoppervlak waar de aarbeving het sterks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3095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schaal van Ri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de kracht van een aardbeving die we op een schaal van 1 tot en met 9 aange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op de Schaal van Richter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alles blijft staan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op de schaal van Rich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stoelen vallen om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 op de schaal van Richter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gebouwen storten in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9:02:16Z</dcterms:created>
  <dc:creator>Piet</dc:creator>
  <dc:description/>
  <dc:language>en-US</dc:language>
  <cp:lastModifiedBy>Piet Meijer</cp:lastModifiedBy>
  <dcterms:modified xsi:type="dcterms:W3CDTF">2005-06-13T13:34:07Z</dcterms:modified>
  <cp:revision>15</cp:revision>
  <dc:subject/>
  <dc:title>Paragraaf 2.3 Kunnen aardbevingen overal gebeuren?</dc:title>
</cp:coreProperties>
</file>